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D33-F5D5-4527-A0DB-9B4B636E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50F-9E8D-4575-8AA5-F757BA3A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240-4038-4DED-BE22-2F90F724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4C8E-5C41-4A70-9DC2-F7AF379A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5D6-C507-4632-8F2F-894CA63A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2A6-E843-40AE-B2A6-D2BAF035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841D-8B0C-4DF7-BC33-345678F8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E2C-D1CA-46B5-8A41-DDFAA1C1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148E-0C40-4676-BA64-BD05548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8EAF-F1C1-4810-8573-54D83438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D87B-A8C6-44A5-BFE8-46E1014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19CC-29E1-4FC9-8BE6-1481CF9B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85E1-7400-4632-A1B0-7D3FFA8D9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716040"/>
            <a:ext cx="9144000" cy="63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n portion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her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the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ster or br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us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nd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ne/o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nten/un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der M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Preposi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_______/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809880" y="228600"/>
            <a:ext cx="3962520" cy="71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fami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included all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issing 2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family member names and relationship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more than 5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 (direction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– included all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1 or 2 direction word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4 or more direction words &amp;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Very few pauses or very little stumbling over words, sounds close to  a native speaker’s language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esitation, but thoughts are complete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py, slow, many thoughts are not phrased and intoned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 (spok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added extra information in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the required elements, but did nothing to enhance th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family members (pictures and infor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/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0" y="0"/>
            <a:ext cx="37339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 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1447920" y="912960"/>
            <a:ext cx="251460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ei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7924680" y="1143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/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0" y="304920"/>
            <a:ext cx="9144000" cy="69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ritten por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ster /brother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s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moth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dfa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nt or unc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t/g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eber/bes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 liebsten/ am best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wisch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b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r/üb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er/hin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(numbers written out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time activ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ject in scho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you are fr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20520"/>
            <a:ext cx="4572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included all required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sing 2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issing 4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 missing 6 or more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s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family members or extra vocabulary from previous lesson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laborative 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Student collaborated with teacher to revi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student put for minimal effort at collab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–no collab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4800600" y="42670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32 (this si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/ 77 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63360" y="-136440"/>
            <a:ext cx="148608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8:47:32Z</dcterms:created>
  <dc:creator>udsd</dc:creator>
  <dc:description/>
  <dc:language>en-US</dc:language>
  <cp:lastModifiedBy>Alissa</cp:lastModifiedBy>
  <dcterms:modified xsi:type="dcterms:W3CDTF">2015-04-14T01:00:03Z</dcterms:modified>
  <cp:revision>29</cp:revision>
  <dc:subject/>
  <dc:title>Slide 1</dc:title>
</cp:coreProperties>
</file>